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C30-625F-4AB1-8C65-5900DF28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CEB-7A3F-407D-AC52-BCC363B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22D-6D9D-4027-BB55-0082D4F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8CB-A603-464C-ADD4-A928C37B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09EF5-7931-40EC-AD3F-AD531D13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BDD57-61C2-47E6-B157-3544157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434E-AEE7-4469-BF9E-EC99449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30495-7337-4231-B83B-03CD089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797DD-5D86-47B5-98EB-7902086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FC064-B514-4E1D-819D-A95F46C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E87B2-4BB8-47A2-9248-7DEBD6B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D6A-D2A7-4DCC-A7DA-EFDDACBC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08FEC-5AC1-4675-A688-E8ACEB8C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08D96-4B59-4117-A0D3-E79B38A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01DB-9822-4D18-9D07-A9D3021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F0788-21F4-43B0-87C0-D2555164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641FC-4F36-472F-BE50-A1155E68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F88-6957-4F03-B873-57636D8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0BE-4B0E-4B12-991C-0423FDA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954-46D0-4FAF-80EB-18B735A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0E9-29FB-42B9-BFE9-E2ED4912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082-2ABE-4758-A882-9A3FB3B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6DE-5C72-4A4C-BC86-F5DBB59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36A-AC3F-400C-B52F-0EE210F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ABA-AB92-4424-A371-FFF88B0BE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57F-C248-446A-A079-E7F028C181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terjourna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Self-Organizing and Collective-Intelligence approach to the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er-Review Proces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o Rodrigu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.D. Advancement Ex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3709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cial-Network Algorithms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 support the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er-Review Proces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6019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Authorship Network of 555 scient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9. Co-Authorship Networ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-Authorship Netwo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ach time two scientists collaborate on a paper they create a link between them within the greater scientific communities social-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343400"/>
            <a:ext cx="1524240" cy="1447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driguez,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343400"/>
            <a:ext cx="1523880" cy="1447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inbock, 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029200"/>
            <a:ext cx="4648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9625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etal-Scale Decision Making Using Social Networks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ACSO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0. Co-Authorship Networks (cont.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Expert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nections in a social-network are based on similarity of the domain of that network [McPherson, et.al. 2001].  For co-authorship networks this implies similar research inter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Tr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nections in a social-network can represent trust within that domain [Newman 2003]. For co-authorship networks this implies trust of expert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3341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 if two scientists coauthor 10 publications together it is implied that they trust the expertise of the other (relative to that domai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1. Social Network Algorith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refe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n individuals influence in decision-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otentially interested members of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343400"/>
            <a:ext cx="6858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sed coauthorship data has been provided by Mark Newman (Santa Fe Institute) from the entire arXiv pre-print repository as of 200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eBase has also provided this project a list of over 1million coauthorship links to update the 2001 lis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2. Referee Iden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Locating refe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dentifying expertise through network structure (cliques). [Newman 2001-20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5486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way, more referees could be identified (&gt;4) and could potentially contribute to review.  Thus reducing requirements of a single individual and increasing the amount of com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3. Referee Identification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4267080" cy="1202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, “SomePaper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eJour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 &amp; S3, “APaper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Confer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09320" y="2209680"/>
            <a:ext cx="838440" cy="6098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76720" y="2666880"/>
            <a:ext cx="457200" cy="990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33360" y="2666880"/>
            <a:ext cx="990360" cy="2133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1233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mitted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eading activation identifies cliques and recurrent areas of the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4. Experiment #1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algorithm vs. editor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a journal to ask them for previous ‘competency survey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rXiv to gather preprints within that journals domain and run referee identification algorith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potential referees and have them fill out the ‘competency survey’ for that pre-pr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T-Tests to determine if the algorithm works better than the editor at identifying competent refer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5. Individual Influ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cision-making auth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dividual centrality identifies trust/expertise within the collective. [Rodriguez &amp; Steinbock 2004a&amp;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39625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the potential for multiple referees it is important to gauge the relative ‘visibility’ of their comments and ‘weight’ of their acceptance/rejection recommend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6. Individual Influence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505320"/>
            <a:ext cx="7596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361960" y="4419720"/>
            <a:ext cx="68580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3200400"/>
            <a:ext cx="53316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514240" y="5105160"/>
            <a:ext cx="10666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429000" y="3352320"/>
            <a:ext cx="114300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410080" y="3048120"/>
            <a:ext cx="18288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3580920"/>
            <a:ext cx="12956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248160" y="4800600"/>
            <a:ext cx="5331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257800" y="3733920"/>
            <a:ext cx="533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828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w of power to participating members.  Power gives ‘visibility’ to comments and ‘weight’ to acceptance/rejection decision-ma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le energy goes from source (non-participating) to sink (participating)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7. Individual Influence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3505320"/>
            <a:ext cx="7596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4419720"/>
            <a:ext cx="68580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200400"/>
            <a:ext cx="53316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514240" y="5105160"/>
            <a:ext cx="10666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429000" y="3352320"/>
            <a:ext cx="114300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10080" y="3048120"/>
            <a:ext cx="18288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324480" y="3580920"/>
            <a:ext cx="12956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248160" y="4800600"/>
            <a:ext cx="5331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5257800" y="3733920"/>
            <a:ext cx="533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16002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asing the initial populations energy distribution allows the collective decision-making to be biased towards the perspective of the individuals conducting research within the manuscripts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le energy goes from source (non-participating) to sink (participating)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 The Peer Review Proc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eer-Review 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“A scholarly process used to screen submissions for publication and proposals for funding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dified from 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2670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rnal and funding agencies find peers in the community to determine the quality of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8. Experiment #2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fluctuating participation simulation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small domain within the coauthorship network (simulation over a 1000 node becomes computationally intensiv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the network’ giving the members of the community generated ‘opinions’ that slightly vary over every ed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a decision-making process to determine the error between the decision made by the whole community and the decision made by randomly selected active participants. [Rodriguez &amp; Steinbock 20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9. Simulation Pac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08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0. Manuscript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ublication dissemi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munity structure identifies sub-domain groups.  Paper ratings (decision ‘score’) can help determine the papers diffusion potential. [Rodrigue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dissemination is about finding the balance between accuracy of mapping and ‘noise’ or randomness to promote the spread of potentially novel of ideas across domains [Van Overwalle, Heylighen, Heath 200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1. Experiment #3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algorithm vs. Google Scholar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a massive collection arXiv preprints and run the spreading activation algorith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single scientist that has many preprint potentials, go to their website and find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Google Scholar and gather papers according to the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scientist to determine the relatedness of each paper (blind to spreading activation papers and Google Scholar pap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Tests to determine if the algorithm has a comparable or better level of dissemination accuracy than Google Sch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Multi-Agent System Architecture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or the ‘Plug &amp; Play’ of Fea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2. Multiple System Instanti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er-review process can be organized in many different ways depending on the desires of the system administ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ping in agents into the agent-society to provide particular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gent can serve multiple system (i.e. CiteBase coauthorship agent can provide e-services to multiple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Stand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Fully-Op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gent system architecture will define an agent-society capable of performing all types of particular instantiations (system-flex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3.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identify the top 4 refere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 manuscript to refe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their comments and distribute to auth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referee’s final acceptance/rejection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ccepted, electronically publish the paper and run algorithm to automatically solicit interested rea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4. Fully-Op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ny member in the scientific community to comment and vote on all submitted manuscri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ve intelligence approach in that ‘the more-eyes, the less-bugs’ [Linus Torvald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 decision-making algorithm to determine an individuals visibility in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influential in the domain, the more visible ones comments and the more weight ones decision’s can ha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publish the paper if accepted and automatically solicit interested rea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5. Hyb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4 selected referees to be ‘influenced’ by the community at large (ie. bias referee who is ‘in tune’ with commun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ntire community to comment, but only referees to decision-m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only scientists in the domain to participate in peer-revie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for ‘appeals’ to the community at lar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6216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a matter of ‘tuning’ the agents and permitting some agents into the society as opposed to oth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6. Other Potential Modific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Grad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o concept of ‘accept’ and ‘reject’ only that papers have variable dissemination potential through their associated ‘validation’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Manuscript-Dom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with fully electronic system allow multiple types of ‘manuscripts’ (software, video, data, etc.) and/or categories of manuscripts (essays, failed experiments, etc.) [InterJournal, 2001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Collective-Refle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llow the community to use the system to decision-make as to the parameters governing their peer-review process [Kiemen, Rodriguez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4911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interjournal.org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: a self-organizing online-jou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791320" y="4952880"/>
            <a:ext cx="2361960" cy="459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254480"/>
            <a:ext cx="2361960" cy="459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114800"/>
            <a:ext cx="2286000" cy="243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 .Standard Peer-Review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26708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3880"/>
            <a:ext cx="8229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cientist(s) requests publication of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Editors locate scientists in the community to review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Reviewers (referees) ‘collaborate’ with author(s) to increase quality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Reviewers (referees) accept/reject publication based on journal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ublisher disseminate the manuscript to the interested scient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24520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94504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5200" y="106668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* the remainder of the talk will be in terms of manuscript publ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495680"/>
            <a:ext cx="1981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880" y="4648320"/>
            <a:ext cx="198144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71800" y="4724280"/>
            <a:ext cx="0" cy="533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4724280"/>
            <a:ext cx="236232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880" y="5334120"/>
            <a:ext cx="198144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1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924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272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5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504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10200"/>
            <a:ext cx="2361960" cy="11912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-Review Multi-Agen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7479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Scientific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7. The Thesis Contra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-domai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ge body of literature devoted to this iss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nd validate the referee identification algorithm, the decision-making authority algorithm, and the publication dissemin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author identification and paper dissemination software tool for public use by editors and funding agen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ocial-network simulation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agent system agent society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methods to get various system instanti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ulate necessary protocols for exte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8. Benefits to Sci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scientific community to become a self-managed publishing organization in order to provide the community with free scholarly work without sacrificing the scrutiny of the peer-review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s many of the limitations articulated: time to print, collaboration, reviewer bias, human time, and c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s may prove successful in other large-group decision support systems (i.e. open source developm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9. 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Journal-Impact score?  How does such a system effect these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‘deconstructed journals’ [Smith 1999] as containers within the journal-less environ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AuthorRank and Coauthorship networks [Bollen 200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cial-network are effective mediums for expertise identification, distribution of decision-making power, and dissemination of information then this work may be generalized to other societal-scale social-softwar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0. Conclusion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coming…Goo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 Peer-Review Limi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Time to pr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everal months to years from submission to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jor reason for the pre-print culture (arXiv, CiteBase, e-print server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Reviewer bi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that is not in accord with referee research may be re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Peer collab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ith an average of 3 or 4 reviewers per manuscript, getting enough feedback to ensure quality work may not always be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ajor reason for the pre-print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Peer-Review Limitations (cont.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uman effort and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ditors and peer-reviewers are usually scientist with many other obl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st to the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journals cost money to publish and manage and this cost is passed back to the interested community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reason for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hiv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Mediators of the Current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ditor/publisher teams currently mediate the entire process fro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eceiving prepr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ocating refe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istributing referee com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cision-making on accep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utting the manuscript into 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finding an interested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895480"/>
            <a:ext cx="3581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124080"/>
            <a:ext cx="36576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038480"/>
            <a:ext cx="670572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886200"/>
            <a:ext cx="5790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4800600"/>
            <a:ext cx="6324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029200"/>
            <a:ext cx="670536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6. Mediation through Self-Organiz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elf-Organiz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reate a medium to allow for the scientific community to be self-manag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35268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a computational infrastructure that supports the peer-review process which does not include the publishers (and their associated costs) and to provide funding agencies an infrastructure to decrease the human-overhead required to organize proposal re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7. Collaboration through Collective-Intellige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llective-Intel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pitalizing on the heterogeneity of skills in a population in order to yield solutions to problems that are more optimal than what any member could provide working alone [Steinbock, Rodriguez, et.al 2001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724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648320"/>
            <a:ext cx="6705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dium that promotes variable user participation in the review process  (i.e. spell/grammar checking, math checking, experiment re-doing, et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eyes on the code, the less bugs.” – Linus Torva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8. Mediators of the Future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Social Network An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NA): can provide the necessary tools to support referee identification, collective decision-making, and paper dissemination. [Rodrigue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Steinbock &amp; Rodriguez 2004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Multi-Agent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AS): open-system architecture for understandability and flexibility. [Griss 2003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6:59:14Z</dcterms:created>
  <dc:creator> Marko Rodriguez</dc:creator>
  <dc:description/>
  <dc:language>en-US</dc:language>
  <cp:lastModifiedBy> Marko Rodriguez</cp:lastModifiedBy>
  <dcterms:modified xsi:type="dcterms:W3CDTF">2005-02-17T15:02:48Z</dcterms:modified>
  <cp:revision>386</cp:revision>
  <dc:subject/>
  <dc:title>Self-Organization and Collective-Intelligence Principles applied to the Peer-Review Process Social-Networks to Support the Scientific Communit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