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A9D-77EF-4D44-95E1-4D539D5F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B84-7E22-40B0-BC3A-A07C52B6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729-6EC9-458B-A1CF-55498F4E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2C6-FA37-4249-9B8F-50D2D99C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93741-731F-4244-AC16-C0942241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F13C9-B13D-4E6F-9EF1-80E98574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0432F-7548-463B-97B3-2B117777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41C3E-B7D8-4DB7-8E9D-D7D95887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FA1A2-27D6-4134-878D-6ECC971D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98387-8F1D-4B53-B78A-04F13851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90196-FE46-4E34-AD83-C8B6860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BF2-1935-438A-A2F0-0B0088BE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10181-F16A-4BE1-A062-8BDFCCBC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866FD-ACC9-48EC-B461-9405FFB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4ADAE-53C0-4AB8-9710-547BD0AE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20B75-062C-43AC-9A43-9DA8077B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42784-6712-4046-89A1-097A90BC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3D5-4155-45FA-8C80-9911D036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27B-B396-49BA-B2D5-67A965A9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FD8-D09D-4DB9-B4A2-A86E2E62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2BF-3087-4542-8C17-8CA36B31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065-7AEF-472B-AD51-F6F92A32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C35-A084-47D3-AE99-432AC42E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C7E-8278-4F93-9BF9-2CE3312D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829-AC27-448E-9CD9-AC418F1913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5081-5FEA-464C-820E-942F186CD3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nterjourna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Self-Organizing and Collective-Intelligence approach to the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Peer-Review Proces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o Rodrigu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.D. Advancement Ex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ter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800600" cy="3709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cial-Network Algorithms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to support the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Peer-Review Proces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60199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CoAuthorship Network of 555 scienti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9. Co-Authorship Network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-Authorship Netwo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each time two scientists collaborate on a paper they create a link between them within the greater scientific communities social-net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4343400"/>
            <a:ext cx="1524240" cy="1447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driguez,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343400"/>
            <a:ext cx="1523880" cy="1447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inbock, 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5029200"/>
            <a:ext cx="4648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71800" y="39625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etal-Scale Decision Making Using Social Networks”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ACSO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10. Co-Authorship Networks (cont.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Expert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nnections in a social-network are based on similarity of the domain of that network [McPherson, et.al. 2001].  For co-authorship networks this implies similar research inter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Tru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nnections in a social-network can represent trust within that domain [Newman 2003]. For co-authorship networks this implies trust of expert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3341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 if two scientists coauthor 10 publications together it is implied that they trust the expertise of the other (relative to that domai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1. Social Network Algorith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refe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an individuals influence in decision-m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otentially interested members of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343400"/>
            <a:ext cx="6858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sed coauthorship data has been provided by Mark Newman (Santa Fe Institute) from the entire arXiv pre-print repository as of 200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teBase has also provided this project a list of over 1million coauthorship links to update the 2001 lis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2. Referee Identifi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Locating refer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dentifying expertise through network structure (cliques). [Newman 2001-20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5486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way, more referees could be identified (&gt;4) and could potentially contribute to review.  Thus reducing requirements of a single individual and increasing the amount of com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9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3. Referee Identification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209680" y="42670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904760" y="3429000"/>
            <a:ext cx="759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5181480"/>
            <a:ext cx="1218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429000" y="3505320"/>
            <a:ext cx="1219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209320" y="32767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334120" y="3200040"/>
            <a:ext cx="19810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105160" y="38098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48769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95880" y="350532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8006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35812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52578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124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4267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27432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281952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5410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1523880"/>
            <a:ext cx="4267080" cy="1202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, “SomePaper”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meJour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 &amp; S3, “APaper”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Confer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209320" y="2209680"/>
            <a:ext cx="838440" cy="6098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76720" y="2666880"/>
            <a:ext cx="457200" cy="9907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133360" y="2666880"/>
            <a:ext cx="990360" cy="21337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1233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mitted Manuscri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eading activation identifies cliques and recurrent areas of the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14. Experiment #1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algorithm vs. editor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a journal to ask them for previous ‘competency surveys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rXiv to gather preprints within that journals domain and run referee identification algorith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potential referees and have them fill out the ‘competency survey’ for that pre-pr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T-Tests to determine if the algorithm works better than the editor at identifying competent refere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5. Individual Influ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ecision-making auth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ndividual centrality identifies trust/expertise within the collective. [Rodriguez &amp; Steinbock 2004a&amp;b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39625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the potential for multiple referees it is important to gauge the relative ‘visibility’ of their comments and ‘weight’ of their acceptance/rejection recommend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6. Individual Influence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09680" y="42670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904760" y="3429000"/>
            <a:ext cx="759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5181480"/>
            <a:ext cx="1218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29000" y="3505320"/>
            <a:ext cx="1219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209320" y="32767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34120" y="3200040"/>
            <a:ext cx="19810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105160" y="38098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48769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095880" y="350532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480060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43200" y="35812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52578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312408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4267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7432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281952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5410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505320"/>
            <a:ext cx="7596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361960" y="4419720"/>
            <a:ext cx="68580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3200400"/>
            <a:ext cx="53316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514240" y="5105160"/>
            <a:ext cx="10666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429000" y="3352320"/>
            <a:ext cx="114300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410080" y="3048120"/>
            <a:ext cx="182880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324480" y="3580920"/>
            <a:ext cx="12956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6248160" y="4800600"/>
            <a:ext cx="53316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257800" y="3733920"/>
            <a:ext cx="533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1828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w of power to participating members.  Power gives ‘visibility’ to comments and ‘weight’ to acceptance/rejection decision-mak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le energy goes from source (non-participating) to sink (participating)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7. Individual Influence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209680" y="42670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1904760" y="3429000"/>
            <a:ext cx="759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5181480"/>
            <a:ext cx="1218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429000" y="3505320"/>
            <a:ext cx="1219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209320" y="32767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334120" y="3200040"/>
            <a:ext cx="19810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5105160" y="380988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48769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095880" y="350532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6520" y="480060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5812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52578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3124080"/>
            <a:ext cx="68580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267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74320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281952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5410080"/>
            <a:ext cx="68580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3505320"/>
            <a:ext cx="7596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4419720"/>
            <a:ext cx="685800" cy="5331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3200400"/>
            <a:ext cx="53316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514240" y="5105160"/>
            <a:ext cx="10666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429000" y="3352320"/>
            <a:ext cx="114300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410080" y="3048120"/>
            <a:ext cx="1828800" cy="152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324480" y="3580920"/>
            <a:ext cx="129564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248160" y="4800600"/>
            <a:ext cx="53316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5257800" y="3733920"/>
            <a:ext cx="53352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16002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asing the initial populations energy distribution allows the collective decision-making to be biased towards the perspective of the individuals conducting research within the manuscripts dom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49116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le energy goes from source (non-participating) to sink (participating)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. The Peer Review Proc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eer-Review Pro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“A scholarly process used to screen submissions for publication and proposals for funding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odified from 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2670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urnal and funding agencies find peers in the community to determine the quality of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18. Experiment #2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fluctuating participation simulation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 small domain within the coauthorship network (simulation over a 1000 node becomes computationally intensiv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lk the network’ giving the members of the community generated ‘opinions’ that slightly vary over every ed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te a decision-making process to determine the error between the decision made by the whole community and the decision made by randomly selected active participants. [Rodriguez &amp; Steinbock 20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19. Simulation Pack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08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0. Manuscript Distrib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ublication dissemin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ommunity structure identifies sub-domain groups.  Paper ratings (decision ‘score’) can help determine the papers diffusion potential. [Rodriguez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prog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4343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dissemination is about finding the balance between accuracy of mapping and ‘noise’ or randomness to promote the spread of potentially novel of ideas across domains [Van Overwalle, Heylighen, Heath 2004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21. Experiment #3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algorithm vs. Google Scholar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a massive collection arXiv preprints and run the spreading activation algorith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 single scientist that has many preprint potentials, go to their website and find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Google Scholar and gather papers according to the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 scientist to determine the relatedness of each paper (blind to spreading activation papers and Google Scholar pap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-Tests to determine if the algorithm has a comparable or better level of dissemination accuracy than Google Sch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Multi-Agent System Architecture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or the ‘Plug &amp; Play’ of Feature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22. Multiple System Instantiation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er-review process can be organized in many different ways depending on the desires of the system administr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ping in agents into the agent-society to provide particular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gent can serve multiple system (i.e. CiteBase coauthorship agent can provide e-services to multiple 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Standa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Fully-Op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agent system architecture will define an agent-society capable of performing all types of particular instantiations (system-flexi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3.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cally identify the top 4 refere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 manuscript to refe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their comments and distribute to auth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referee’s final acceptance/rejection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ccepted, electronically publish the paper and run algorithm to automatically solicit interested rea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4. Fully-Op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ny member in the scientific community to comment and vote on all submitted manuscri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ive intelligence approach in that ‘the more-eyes, the less-bugs’ [Linus Torvald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 decision-making algorithm to determine an individuals visibility in th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influential in the domain, the more visible ones comments and the more weight ones decision’s can ha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ally publish the paper if accepted and automatically solicit interested rea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5. Hybr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the 4 selected referees to be ‘influenced’ by the community at large (ie. bias referee who is ‘in tune’ with community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entire community to comment, but only referees to decision-m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only scientists in the domain to participate in peer-revie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for ‘appeals’ to the community at lar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6216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a matter of ‘tuning’ the agents and permitting some agents into the society as opposed to other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26. Other Potential Modification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Gradi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o concept of ‘accept’ and ‘reject’ only that papers have variable dissemination potential through their associated ‘validation’ sc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Manuscript-Dom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with fully electronic system allow multiple types of ‘manuscripts’ (software, video, data, etc.) and/or categories of manuscripts (essays, failed experiments, etc.) [InterJournal, 2001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Collective-Refle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llow the community to use the system to decision-make as to the parameters governing their peer-review process [Kiemen, Rodriguez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prog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4911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interjournal.org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: a self-organizing online-jour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791320" y="4952880"/>
            <a:ext cx="2361960" cy="4597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s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254480"/>
            <a:ext cx="2361960" cy="4597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4114800"/>
            <a:ext cx="2286000" cy="2438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2 .Standard Peer-Review Proces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267080"/>
            <a:ext cx="1752480" cy="459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523880"/>
            <a:ext cx="8229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cientist(s) requests publication of manuscri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Editors locate scientists in the community to review manuscri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Reviewers (referees) ‘collaborate’ with author(s) to increase quality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Reviewers (referees) accept/reject publication based on journal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Publisher disseminate the manuscript to the interested scienti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245200"/>
            <a:ext cx="1752480" cy="459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5945040"/>
            <a:ext cx="1752480" cy="4597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5200" y="106668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* the remainder of the talk will be in terms of manuscript publis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4495680"/>
            <a:ext cx="19814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09880" y="4648320"/>
            <a:ext cx="1981440" cy="68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71800" y="4724280"/>
            <a:ext cx="0" cy="533520"/>
          </a:xfrm>
          <a:prstGeom prst="line">
            <a:avLst/>
          </a:prstGeom>
          <a:ln w="1908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809880" y="4724280"/>
            <a:ext cx="236232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809880" y="5334120"/>
            <a:ext cx="1981440" cy="838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1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924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2720" y="4800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520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504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4210200"/>
            <a:ext cx="2361960" cy="11912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er-Review Multi-Agent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37479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Scientific 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7. The Thesis Contrac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-domai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ge body of literature devoted to this iss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nd validate the referee identification algorithm, the decision-making authority algorithm, and the publication dissemination algorith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author identification and paper dissemination software tool for public use by editors and funding agen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social-network simulation 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agent system agent society spec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methods to get various system instanti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culate necessary protocols for exten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8. Benefits to Scien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the scientific community to become a self-managed publishing organization in order to provide the community with free scholarly work without sacrificing the scrutiny of the peer-review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s many of the limitations articulated: time to print, collaboration, reviewer bias, human time, and c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s may prove successful in other large-group decision support systems (i.e. open source developmen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9. Conclu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Journal-Impact score?  How does such a system effect these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‘deconstructed journals’ [Smith 1999] as containers within the journal-less environm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le of AuthorRank and Coauthorship networks [Bollen 200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cial-network are effective mediums for expertise identification, distribution of decision-making power, and dissemination of information then this work may be generalized to other societal-scale social-softwar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0. Conclusion (cont.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for coming…Good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3. Peer-Review Limita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Time to pr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everal months to years from submission to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jor reason for the pre-print culture (arXiv, CiteBase, e-print server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Reviewer bi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that is not in accord with referee research may be rej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Peer collabo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ith an average of 3 or 4 reviewers per manuscript, getting enough feedback to ensure quality work may not always be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ajor reason for the pre-print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4. Peer-Review Limitations (cont.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Human effort and t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editors and peer-reviewers are usually scientist with many other obli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st to the commun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journals cost money to publish and manage and this cost is passed back to the interested community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reason for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hiv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5. Mediators of the Current Proces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60020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ditor/publisher teams currently mediate the entire process fro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receiving prepr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locating refe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istributing referee com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ecision-making on accep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putting the manuscript into p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finding an interested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895480"/>
            <a:ext cx="3581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3124080"/>
            <a:ext cx="365760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038480"/>
            <a:ext cx="6705720" cy="6098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886200"/>
            <a:ext cx="5790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4800600"/>
            <a:ext cx="6324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029200"/>
            <a:ext cx="670536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6. Mediation through Self-Organiz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Self-Organiz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reate a medium to allow for the scientific community to be self-manag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35268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a computational infrastructure that supports the peer-review process which does not include the publishers (and their associated costs) and to provide funding agencies an infrastructure to decrease the human-overhead required to organize proposal revie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7. Collaboration through Collective-Intellige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Collective-Intellig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pitalizing on the heterogeneity of skills in a population in order to yield solutions to problems that are more optimal than what any member could provide working alone [Steinbock, Rodriguez, et.al 2001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724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4648320"/>
            <a:ext cx="6705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vide a medium that promotes variable user participation in the review process  (i.e. spell/grammar checking, math checking, experiment re-doing, etc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eyes on the code, the less bugs.” – Linus Torva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8. Mediators of the Future Proces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Social Network Analy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NA): can provide the necessary tools to support referee identification, collective decision-making, and paper dissemination. [Rodriguez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progr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[Steinbock &amp; Rodriguez 2004]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Multi-Agent 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MAS): open-system architecture for understandability and flexibility. [Griss 2003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6:59:14Z</dcterms:created>
  <dc:creator> Marko Rodriguez</dc:creator>
  <dc:description/>
  <dc:language>en-US</dc:language>
  <cp:lastModifiedBy> Marko Rodriguez</cp:lastModifiedBy>
  <dcterms:modified xsi:type="dcterms:W3CDTF">2005-02-17T15:02:48Z</dcterms:modified>
  <cp:revision>386</cp:revision>
  <dc:subject/>
  <dc:title>Self-Organization and Collective-Intelligence Principles applied to the Peer-Review Process Social-Networks to Support the Scientific Communit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