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16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79280" y="-9720"/>
            <a:ext cx="626436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40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" y="416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40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080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3240" y="182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36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080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3240" y="4168800"/>
            <a:ext cx="264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79280" y="-9720"/>
            <a:ext cx="626436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16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828800"/>
            <a:ext cx="40158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168800"/>
            <a:ext cx="82296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6036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124000" y="6524640"/>
            <a:ext cx="7020000" cy="17928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51480"/>
            <a:ext cx="2124000" cy="179640"/>
          </a:xfrm>
          <a:prstGeom prst="rect">
            <a:avLst/>
          </a:prstGeom>
          <a:solidFill>
            <a:srgbClr val="abb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f73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7f73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7f735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6480" y="6405480"/>
            <a:ext cx="226872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  |   pag. </a:t>
            </a:r>
            <a:fld id="{02931ACC-A211-4458-8053-4A2162DDA17D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70280" cy="158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42840" y="3254400"/>
            <a:ext cx="64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-5040" y="6557760"/>
            <a:ext cx="20667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  |   pag.  </a:t>
            </a:r>
            <a:fld id="{630CB48D-6289-4805-97D0-088AFCCD2A3F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88960"/>
            <a:ext cx="2627280" cy="863640"/>
          </a:xfrm>
          <a:prstGeom prst="rect">
            <a:avLst/>
          </a:prstGeom>
          <a:solidFill>
            <a:srgbClr val="8c8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43200" y="2349360"/>
            <a:ext cx="4673520" cy="216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9520" cy="212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520" y="2666520"/>
            <a:ext cx="63248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ealing Invisible Landsca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iel Steinb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00360" y="3956040"/>
            <a:ext cx="19386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.g. Trust Net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worthiness is a function of how many people trust you and the trustworthiness of those peopl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is recursive, emergen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lculate it for one person we need to calculate it for the whole network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-1422360" y="0"/>
            <a:ext cx="10566360" cy="7072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scape model of complex system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walks work well on naturally ordered landscap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flow networks simulate random walk dynamics and reveal the landscape when only the network structure is know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ble to analysis and simulation of social networks and other complex system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you ECCO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 you Francis &amp; Marko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s &amp; audio licensed under Creative Common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questions and comments to daniel@sonic.ne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6120" y="608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42840" y="3254400"/>
            <a:ext cx="6473880" cy="18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Particle-Flow Networks for Individual and Collective Intelligen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42840" y="5373720"/>
            <a:ext cx="647388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o Rodriguez, Francis Heylighen, Daniel Steinb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utline of the Present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What is a particle-flow network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General paradigm for simulating intelligence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How do particle-flow networks apply to individual-intelligence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How do particle-flow networks apply to collective-intelligence systems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Part 1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Network: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as defined by a set of nodes and directed-edges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article-flow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discrete particles which travel through the network performing certain elementary functions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2530440"/>
            <a:ext cx="38973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Edge-weigh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refers to the probability that a particle at that node will take that outgoing edge at time step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                           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+ 1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973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828800"/>
            <a:ext cx="55515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Energy Conten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amount of energy currently in the particl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Decay-Scalar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percentage of energy lost each time-step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Initial-Node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node which created the particl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Current-Node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current location of the particl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ath-Length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amount of edges the particle has traversed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19920" y="2666880"/>
            <a:ext cx="268272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article-storage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refers the amount of particles in a node at time step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Flow-amoun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refers to the amount of energy that has flowed through a node over the period      [0, 1, </a:t>
            </a:r>
            <a:r>
              <a:rPr b="0" lang="ar-SA" sz="2400" spc="-1" strike="noStrike">
                <a:solidFill>
                  <a:srgbClr val="5f604a"/>
                </a:solidFill>
                <a:latin typeface="Arial"/>
                <a:ea typeface="Arial"/>
              </a:rPr>
              <a:t>…,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24280" y="2541600"/>
            <a:ext cx="38973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26760" cy="7597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level introduct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ory behind Particle Flow Network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imple exampl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40384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Attractivity (a.k.a.-sink)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refers to the probability that a node will hold a particle at time step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  An attractivity value of 100% means that none of the particles that reach the node ever leaves it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24280" y="2540160"/>
            <a:ext cx="38973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-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Programmically each particle is endowed with its own send() and recv() function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public void send(Node currentNode){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pathLength++;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energyContent = energyContent * decayScalar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currentNode.flow = currentNode.flow + energyContent;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currentNode.storage = currentNode.storage++;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public void recv(Node currentNode){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if(RANDOM &gt; currentNode.activity) {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// view currentNode.outgoingEdges and make a hop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currentNode.storage = currentNode.storage--;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eneral Paradigm for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Part 2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gni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Capability to infer from experienced to as yet not experienced phenomena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Prediction, anticipat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Imagination, concept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Planning, problem-solving, decision-making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General form: input -&gt; outpu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 = problem, condition, perception, present information...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= solution, action, interpretation, expectation...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Knowledge = collection of “</a:t>
            </a: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if…then</a:t>
            </a: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” rul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A -&gt; B, B -&gt; C, B -&gt; D, D -&gt; E, E -&gt; A, E -&gt; F, …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Connections can be: deductive, abductive, semantic, causal, probabilistic, associative..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Example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banana -&gt; fruit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drop stone -&gt; stone falls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winter -&gt; snow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dog -&gt; cat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Knowledge Net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Rules determine a weighted network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Node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A, B, C... = concepts, categories, distinction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Link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A -&gt; B = expectancy of B, given A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Weights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= degree of expectation or conditional probability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Learned through experience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gnitive process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Making inferences with complex input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 = Different nodes are activated to different degre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Activation propagates along link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Activating new nodes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activations combine and interact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 = nodes in which most activation settl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dividual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604a"/>
                </a:solidFill>
                <a:latin typeface="Arial"/>
              </a:rPr>
              <a:t>Part 3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dividual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Intelligence = problem-solving ability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Intelligence (quantitative) = efficiency with which network finds good solution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Spreading activation is a very demanding proces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Activation propagates along link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activations diffuse, combine and interact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Energy dissipat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-&gt; not enough may remain to activate best solution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al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Q te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asure of fluid intelligen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 questions: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one is most like the first word?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ve : death, hate*, beginning, family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word of the second list best fits in the first list?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uch, taste, smell, see : cry, swim, climb, hear*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of the following is least like the others?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g, car*, bird, fish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-219240" y="0"/>
            <a:ext cx="9515520" cy="713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ndscape Mode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 metaphor for complex system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homogeneous state spa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WordScore: an IQ simula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es particle flow network to solve tes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based on Word Association data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Initial nod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solution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nk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nk that collects most/least particl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ts about 75% correct = 3 x better than chan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average IQ for 12 year-old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s/worsens depending on parameter setting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ay rate, number of particles, link strengths...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3168720" cy="4025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Demonst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76520" y="2743200"/>
            <a:ext cx="609588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ordScor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Collective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t 4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  <a:ea typeface="Times New Roman"/>
              </a:rPr>
              <a:t>Collective Intellig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ive Intellig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distributing problem-solving over many individual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right person to tackle each (sub)problem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representat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individual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trust or knowledge relationships 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ropagating questions to the right individual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mophilic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In word-networks edges connect similar words (similarity by association)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In social-networks edges connect similar people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Friendship networks: amicability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Trust networks: opinions/perspectives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Co-authorship networks: expertis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Collective Mental Ma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A collective of individuals creates a footprint of activity which can be used as a map of the community. 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Particle-swarms allow you to search that map to interact with individuals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Provide them user specific information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Problems or Solutions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Provide them decision-making influence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735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Arial"/>
              </a:rPr>
              <a:t>Problem-Solving Influence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pinion-Based Representative Decision-Making Syst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Given a particular opinion poll, if </a:t>
            </a:r>
            <a:r>
              <a:rPr b="1" i="1" lang="en-US" sz="2400" spc="-1" strike="noStrike">
                <a:solidFill>
                  <a:srgbClr val="5f604a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individuals of the society participate in the decision-making process, the result is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Given any </a:t>
            </a:r>
            <a:r>
              <a:rPr b="1" i="1" lang="en-US" sz="2400" spc="-1" strike="noStrike">
                <a:solidFill>
                  <a:srgbClr val="5f604a"/>
                </a:solidFill>
                <a:latin typeface="Arial"/>
              </a:rPr>
              <a:t>subse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of the group, is the decision derived by this subset still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A method to holographically represent the collective’s decision-making behavior within any subset of the collective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ull Particip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90720" y="2238480"/>
            <a:ext cx="3949560" cy="4012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71600" y="2133720"/>
            <a:ext cx="45720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038480"/>
            <a:ext cx="457200" cy="3812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057400"/>
            <a:ext cx="457200" cy="3808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057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ctive Voter  (A = 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373392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= (0.8 + 0.5 + 0.8 + 0.9) / 4 = 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5791320"/>
            <a:ext cx="3429000" cy="64260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to achieve this value as voter participation wa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aning Particip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32040" y="2057400"/>
            <a:ext cx="4020840" cy="4267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505320" y="373392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= (0.5 + 0.9) / 2 = 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791320"/>
            <a:ext cx="3048120" cy="36828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0.05 = | 0.7 – 0.75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mulation on a population of 1,00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600200"/>
          <a:ext cx="8534160" cy="48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-304920" y="0"/>
            <a:ext cx="9753840" cy="7316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hysical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 on potential energy surfa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ball rolling in a bowl, water flowing downhil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4038480"/>
            <a:ext cx="4114800" cy="3682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(i,j) = 1 - │opinion(i) – opinion(j) 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334120"/>
            <a:ext cx="60984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438280"/>
            <a:ext cx="60948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343400" y="3733920"/>
            <a:ext cx="4343400" cy="64260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mbers of the community are voicing their opinion on a particular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81080" y="2514600"/>
            <a:ext cx="4572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4191120"/>
            <a:ext cx="4572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19720" y="2514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5410080"/>
            <a:ext cx="45720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724280" y="5410080"/>
            <a:ext cx="45720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2514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4191120"/>
            <a:ext cx="4572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2819520"/>
            <a:ext cx="4572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5715000"/>
            <a:ext cx="4572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57800" y="5334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ust-Networ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30760" cy="4343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724280" y="5410080"/>
            <a:ext cx="45720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5146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2819520"/>
            <a:ext cx="4572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715000"/>
            <a:ext cx="45720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2895480"/>
            <a:ext cx="4572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5943600"/>
            <a:ext cx="4572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2438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5334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4343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= (250 * 0.9) + (150 * 0.5) / 400 = 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5791320"/>
            <a:ext cx="320040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0.00 = | 0.75 – 0.75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mulation on a population of 1,00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8600" y="1392120"/>
          <a:ext cx="891540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92120"/>
                    <a:ext cx="891540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715000" y="4648320"/>
            <a:ext cx="1600200" cy="1066680"/>
          </a:xfrm>
          <a:prstGeom prst="line">
            <a:avLst/>
          </a:prstGeom>
          <a:ln w="255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~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4648320"/>
            <a:ext cx="1447920" cy="914400"/>
          </a:xfrm>
          <a:prstGeom prst="line">
            <a:avLst/>
          </a:prstGeom>
          <a:ln w="255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957760" y="68760"/>
            <a:ext cx="6107400" cy="145116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enefits of K~3 Network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K~3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networks are the most optimal, individuals in the group need only know 3 other individuals to create a good model of the whole.  Practical in terms of human what we see in already existing social-networks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K=N-1 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was the most optimal network then this would be less promising since everyone would need to relate to everyone in the group.  Fully connected social-networks do not appear in nature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38080" y="3333600"/>
            <a:ext cx="7620120" cy="2826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143000" y="34290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327672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4038480"/>
            <a:ext cx="83808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267080"/>
            <a:ext cx="83844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5720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533412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510552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3429000"/>
            <a:ext cx="838080" cy="83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828800"/>
            <a:ext cx="7772400" cy="15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>
                    <a:alpha val="71000"/>
                  </a:srgbClr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ynamically Distributed Democracy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>
                  <a:alpha val="71000"/>
                </a:srgbClr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Problem Domai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What about representative networks that are not ‘opinion’-based, but more ‘expert’-based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How should the network account for the context of the problem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Should everyone have the same initial distribution of particles for decision-making?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ubset Mapp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066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Whole to Subset Mapping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Modeling the whole of the network within a subset of the whole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3260880"/>
            <a:ext cx="7620120" cy="2825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143000" y="3352680"/>
            <a:ext cx="83808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2004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396252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4267080"/>
            <a:ext cx="83844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495680"/>
            <a:ext cx="838080" cy="83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52578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5029200"/>
            <a:ext cx="838080" cy="838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3352680"/>
            <a:ext cx="83808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-228600" y="450720"/>
            <a:ext cx="9726480" cy="6407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enetic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of living organism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on fitness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 of landscape = fitnes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variation and selectio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s move uphill as more successful variants reproduce quicker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ubset Mapp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470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Subset to Subset Mapping: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identifying the most representative nodes relative to a particular input subset.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The domain is the initial subset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838080" y="3260880"/>
            <a:ext cx="754380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llective Peer-Review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roblem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Should manuscript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be published for the community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roblem-Routing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Which members of the community should review manuscript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Problem-Solving Influence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Of those individuals what is the relative influence each member should have? [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MONSTRATION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The communities decision on manuscript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Solution-Routing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Which members of the community would be interested in the published manuscript </a:t>
            </a:r>
            <a:r>
              <a:rPr b="0" i="1" lang="en-US" sz="2400" spc="-1" strike="noStrike">
                <a:solidFill>
                  <a:srgbClr val="5f604a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eer-Review Decision-Mak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Given an unpublished manuscript, determine the amount of ‘influence’ each member of the community should have regarding accepting or rejecting the manuscript.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604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Who should have more decision-making influence?  A Nobel Laureate in Chemistry or a less-renowned computer-scientist?</a:t>
            </a:r>
            <a:endParaRPr b="0" lang="en-US" sz="2400" spc="-1" strike="noStrike">
              <a:solidFill>
                <a:srgbClr val="5f60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pends on the manuscript domain</a:t>
            </a:r>
            <a:endParaRPr b="0" lang="en-US" sz="2400" spc="-1" strike="noStrike">
              <a:solidFill>
                <a:srgbClr val="7f73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-Authorship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1628640"/>
            <a:ext cx="42559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When two scientist co-author a paper an edge between them is created within the scientific communities co-authorship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676760" y="1752480"/>
            <a:ext cx="422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-Authorship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048200" cy="40478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68360" y="1752480"/>
            <a:ext cx="3951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447920"/>
            <a:ext cx="4876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Bollen: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Digital-Libraries &amp; Impact Rat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Hussel: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 Co-Authorship Network 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Nelson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Impact Rat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Luce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Digital-Library Architectures and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Van de Sompel:</a:t>
            </a:r>
            <a:r>
              <a:rPr b="0" lang="en-US" sz="2400" spc="-1" strike="noStrike">
                <a:solidFill>
                  <a:srgbClr val="5f604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OAI-PMH &amp; Co-Authorship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Vemulapeli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Digital-Library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Marks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Co-Authorship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604a"/>
                </a:solidFill>
                <a:latin typeface="Arial"/>
              </a:rPr>
              <a:t>Liu: </a:t>
            </a:r>
            <a:r>
              <a:rPr b="0" lang="en-US" sz="1800" spc="-1" strike="noStrike">
                <a:solidFill>
                  <a:srgbClr val="5f604a"/>
                </a:solidFill>
                <a:latin typeface="Arial"/>
              </a:rPr>
              <a:t>OAI-PMH &amp; E-Print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752480"/>
            <a:ext cx="1143000" cy="11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Smith,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] Guy,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3] Man,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4382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20574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2666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23623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28800" y="2362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8288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26668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057400" y="25146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22860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438280" y="259092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18288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1981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828440" y="1981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219320" y="1904760"/>
            <a:ext cx="7617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2438280"/>
            <a:ext cx="838080" cy="15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2743200"/>
            <a:ext cx="114300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16765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362320" y="190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1447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057400" y="15998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2590560" y="18284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30481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2096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90920" y="29718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2437920" y="2819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30481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05120" y="3123720"/>
            <a:ext cx="30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133720" y="3792600"/>
            <a:ext cx="6858000" cy="26542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191120" y="4495680"/>
            <a:ext cx="685800" cy="762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3809880"/>
            <a:ext cx="685800" cy="68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50292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19600" y="1981080"/>
            <a:ext cx="39528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erp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8077320" y="54864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05920" y="44956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00400" y="1789200"/>
          <a:ext cx="5791320" cy="4611600"/>
        </p:xfrm>
        <a:graphic>
          <a:graphicData uri="http://schemas.openxmlformats.org/drawingml/2006/table">
            <a:tbl>
              <a:tblPr/>
              <a:tblGrid>
                <a:gridCol w="1219320"/>
                <a:gridCol w="888840"/>
                <a:gridCol w="36831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ee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nt Interests Related to 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pel, H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8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AI-PMH and Co-Authorship Netwo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len, 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5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 and Network-Based Impact Metr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r, 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 and Open Archive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l, 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 Management and Digital-Libra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cha, L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Recommenda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goze, 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y Architecture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nad, 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8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n Citation Linking and Digital-Library Archite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tchcock, 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nic Journals and Citation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ke, 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AI Repositories and Citation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ao, 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Print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rgmark, 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 and OAI-P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es-Board, 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vis, H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ies and Adaptive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re, D.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semination of Scientific Information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nch, J.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-Library Distributed Searching and Interfa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dy, 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AI-PMH and Open Citation Lin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76320" y="3048120"/>
            <a:ext cx="1143000" cy="11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1] Smith,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] Guy,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3] Man,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7339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33526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57400" y="39625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36576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36576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600200" y="35049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39625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828800" y="38098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337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680" y="3886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3124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276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599840" y="3276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90720" y="3200040"/>
            <a:ext cx="7617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733920"/>
            <a:ext cx="83808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4038480"/>
            <a:ext cx="114300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5053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29718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133720" y="32000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05120" y="27432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828800" y="28951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2361960" y="3124080"/>
            <a:ext cx="759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43434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198108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4267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2209320" y="4114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43434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981080" y="44953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7242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4952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1080" y="487656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38280" y="4343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62320" y="46483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2057400" y="44953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Arial"/>
              </a:rPr>
              <a:t>Good life…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106720" y="-2666880"/>
            <a:ext cx="15594120" cy="11696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ocial Syst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sity of social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king positive outcom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s, choices, ideas =&gt; mental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ing for people on social fitness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6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andscape Searc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ize random search of ordered landscape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landscapes are structured such that random searches are successful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-60000"/>
          </a:blip>
          <a:stretch/>
        </p:blipFill>
        <p:spPr>
          <a:xfrm>
            <a:off x="-765000" y="0"/>
            <a:ext cx="9909000" cy="7367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article Flow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space formalized as network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le = random walker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le swarm takes a statistical sample of possible random walk path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s out characteristic landscape of the underlying state space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1295280" y="-457200"/>
            <a:ext cx="12998160" cy="8670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79280" y="-9720"/>
            <a:ext cx="6264360" cy="160812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pical Appl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network structure is explicitly known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landscape is implicit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t product of network dynamics</a:t>
            </a: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4:59:05Z</dcterms:created>
  <dc:creator> Marko Rodriguez</dc:creator>
  <dc:description/>
  <dc:language>en-US</dc:language>
  <cp:lastModifiedBy> Marko Rodriguez</cp:lastModifiedBy>
  <dcterms:modified xsi:type="dcterms:W3CDTF">2005-04-22T15:05:26Z</dcterms:modified>
  <cp:revision>103</cp:revision>
  <dc:subject/>
  <dc:title>Particle-Flow Networks for Individual and Collective Intelligence Applications</dc:title>
</cp:coreProperties>
</file>