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2440"/>
            <a:ext cx="784872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7720" y="126792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244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7720" y="359244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272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9720" y="1267920"/>
            <a:ext cx="25272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3640" y="1267920"/>
            <a:ext cx="25272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2440"/>
            <a:ext cx="25272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9720" y="3592440"/>
            <a:ext cx="25272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3640" y="3592440"/>
            <a:ext cx="25272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848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830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267920"/>
            <a:ext cx="3830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88640"/>
            <a:ext cx="7848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267920"/>
            <a:ext cx="3830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244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8300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26792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7720" y="359244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1267920"/>
            <a:ext cx="383004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2440"/>
            <a:ext cx="784872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8000" y="640404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 Library, Los Alamos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6105600"/>
            <a:ext cx="8686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65920" y="6168960"/>
            <a:ext cx="1738440" cy="6447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489720"/>
            <a:ext cx="1297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77777"/>
                </a:solidFill>
                <a:latin typeface="Arial"/>
              </a:rPr>
              <a:t>RESEAR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77777"/>
                </a:solidFill>
                <a:latin typeface="Arial"/>
              </a:rPr>
              <a:t>LIBR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1520" y="6292800"/>
          <a:ext cx="439560" cy="4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1520" y="6292800"/>
                    <a:ext cx="439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848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08000" y="656892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@ OAI4 - Geneva, Switzer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908000" y="623736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Library Research &amp; Prototyping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ko@lanl.go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rxiv.org/oai2?verb=GetRecord&amp;identifier=oai:arXiv.org:cs/0504084&amp;metadataPrefix=oai_dc" TargetMode="External"/><Relationship Id="rId2" Type="http://schemas.openxmlformats.org/officeDocument/2006/relationships/hyperlink" Target="http://arxiv.org/oai2?verb=GetRecord&amp;identifier=oai:arXiv.org:cs/0504084&amp;metadataPrefix=oai_d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549360"/>
            <a:ext cx="77709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Graph to Support Scholarl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 Antonio Rodri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al Library Research &amp; Prototyp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 Alamos National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er for Evolution, Complexity, and 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rije Universiteit Brus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uter Scienc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of California at Santa Cr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marko@lanl.go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.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L: http://www.soe.ucsc.edu/~ok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cholarly Multi-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19280" y="1341360"/>
          <a:ext cx="739764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739764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24000" y="17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57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013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989600" cy="3295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ulti-Graph Repository-Flow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2205000"/>
            <a:ext cx="12956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205000"/>
            <a:ext cx="1800" cy="295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5159520"/>
            <a:ext cx="2016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203640" y="4510080"/>
            <a:ext cx="144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646440"/>
            <a:ext cx="122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gra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6720" y="1630440"/>
            <a:ext cx="122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gra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3860640"/>
            <a:ext cx="122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gra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22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gra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greg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ing Activation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309760" y="397656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004840" y="313848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62040" y="489096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29080" y="321480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09400" y="2986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33840" y="290952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204880" y="351936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5960" y="4586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95960" y="32148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76240" y="45100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329076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81360" y="49672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48040" y="283356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62440" y="397656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00280" y="24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15280" y="25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3160" y="511956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309760" y="1919160"/>
            <a:ext cx="838080" cy="6098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76440" y="2376360"/>
            <a:ext cx="457200" cy="9907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33080" y="2063880"/>
            <a:ext cx="1194120" cy="2446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000">
            <a:off x="2563200" y="17758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-Solving in a Scholarly Multi-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042920"/>
          <a:ext cx="788040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42920"/>
                    <a:ext cx="788040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Related 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79640" y="1341360"/>
          <a:ext cx="548496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341360"/>
                    <a:ext cx="548496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Collabo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39760" y="1268280"/>
          <a:ext cx="548496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268280"/>
                    <a:ext cx="548496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a Jour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39760" y="1303200"/>
          <a:ext cx="548496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303200"/>
                    <a:ext cx="548496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Peer-Revie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050920" y="1341360"/>
          <a:ext cx="548496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341360"/>
                    <a:ext cx="548496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Interested Re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050920" y="1341360"/>
          <a:ext cx="548496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341360"/>
                    <a:ext cx="548496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addition nodes to network: research institutions, keywords, subject categories, funding institutions, departments, etc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long as you can represent a problem as a collection of resources and your solution as a collection of resources, a multi-graph is provides the necessary pattern-matching infrastructure to support the problem-solv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 of this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AI institutional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resource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collection of network generation algorithms to exploit resource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simple spreading-activation network search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problem and solution representation in a multi-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e problem-solving in a scholarly multi-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com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Archives Initiative and Institutional Reposi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84836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rchives Initiative is a joint effort to standardize interfaces between various institutional reposi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 repositories software systems that support the archiving and dissemination of institutiona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is any digital or non-digital artif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, in a repository, has an associated metadata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I-PMH was developed as a protocol for ‘harvesting’ metadata records from institutional reposi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AI and OAI-PM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968720" cy="3209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995640" y="1413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provider (institutional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848040" cy="136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340000" y="765000"/>
            <a:ext cx="0" cy="518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9440" y="14479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deration and 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61912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Meta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062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arxiv.org/oai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verb=GetRecord&amp;identifier=oai:arXiv.org:cs/0504084&amp;metadataPrefix=oai_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25480" y="2707920"/>
            <a:ext cx="614520" cy="14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995640" y="2708280"/>
            <a:ext cx="493920" cy="14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443640" y="2781000"/>
            <a:ext cx="463680" cy="240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0200" y="4114800"/>
            <a:ext cx="2971800" cy="166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 Verb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Ident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Metadata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81560" y="4149720"/>
            <a:ext cx="2971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Identifier (repository specif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40080" y="5181480"/>
            <a:ext cx="4572000" cy="5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data Format (repository specif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ai_dc, didl, olac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0280" y="1752480"/>
            <a:ext cx="2133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 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1916280"/>
            <a:ext cx="294192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00" y="634320"/>
            <a:ext cx="91224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760" rIns="15876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OAI-PM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xml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www.openarchives.org/OAI/2.0/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xmlns:xsi="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www.w3.org/2001/XMLSchema-instance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sponseDat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2005-09-07T15:25:04Z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eDat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quest ver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"GetRecord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dentifi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"oai:arXiv.org:cs/0412047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etadataPrefix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"oai_dc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arXiv.org/oai2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GetReco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o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dentifi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oai:arXiv.org:cs/0412047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sta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2004-12-14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sta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etSpe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cs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Spe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head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metadat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oai_dc:d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xmlns:oai_d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www.openarchives.org/OAI/2.0/oai_dc/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titl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A Social Network for Societal-Scale Decision-Making Systems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titl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cre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Rodriguez, Marko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cre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cre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Steinbock, Daniel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cre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Computers and Society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Data Structures and Algorithms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Human-Computer Interaction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H.4.2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J.7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K.4.m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subje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descript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In societal-scale decision-making systems the collective is faced ...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descript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descript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Comment: Dynamically Distributed Democracy algorithm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descript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dat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2004-12-10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dat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typ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text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typ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identifi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http://arxiv.org/abs/cs/0412047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identifi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c:identifi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North American Association for Computational Social and Organizational Science Conference Proceedings 2004&lt;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:identifi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oai_dc:d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metadat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reco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GetReco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OAI-PM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Generation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71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-Occur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there exists a direct relation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direct relation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ther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o-occurs’ in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34136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there exists a direct relation from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there is an ‘occurrence’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637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26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28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508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508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47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4869000"/>
            <a:ext cx="5760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066920" y="4869000"/>
            <a:ext cx="6490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86900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: O([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N]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2637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: 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786320" y="344880"/>
            <a:ext cx="97880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record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dentifier&gt;info:lanl-repo/i/0e08eefc-d053-11d8-85e1-d1cbfd47556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er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stamp&gt;2004-07-07T20:20:14Z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stamp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tSpec&gt;format:info*3Alanl-repo*2Fpro*2Fis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pec&gt;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ad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adata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idl:Resource mimeType="application/isi+xm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ita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title&gt;The meaning of self-organization in comput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le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utho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u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ylighen, F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1, Δ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u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rshenson, C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&gt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1, Δ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autho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journal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ssn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94-7167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n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3a, Δ3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jtitl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EEE INTELLIGENT SYSTEMS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title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3a, Δ3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titl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EEE INTELL SYST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itle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3a, Δ3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journal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enumera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year&gt;200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volume&gt;18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me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ssue&gt;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page&gt;7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ge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epage&gt;7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ge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enumera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ita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titl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 13 EUR M CYB SYST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itle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3b, Δ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utho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LLEN, J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pag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11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ge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yea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96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reference&gt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titl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WARM INTELLIGENCE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itle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3b, Δ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utho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NABEAU, E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yea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98&lt;/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&gt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Δ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didl:DIDL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adata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record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9:10:33Z</dcterms:created>
  <dc:creator/>
  <dc:description/>
  <dc:language>en-US</dc:language>
  <cp:lastModifiedBy> Marko Rodriguez</cp:lastModifiedBy>
  <dcterms:modified xsi:type="dcterms:W3CDTF">2005-10-26T08:50:33Z</dcterms:modified>
  <cp:revision>743</cp:revision>
  <dc:subject/>
  <dc:title>Slide 1</dc:title>
</cp:coreProperties>
</file>